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BC9-DE5A-4847-9E60-844097B6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E49-4BDD-40FB-9437-54DE77D4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504-7888-485A-8635-1FA380F2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A31-899F-4F03-9E93-A5F43163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7CF-3A56-4ED3-8D6B-681AB727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370-E542-4922-AB6C-2DFDF1EE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B68-376E-4F50-B8C5-F174D544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632-EE3A-44BB-A99C-4E9EF7D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218-45D3-4AF9-9F81-E0F9D824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59E-BFD7-4167-9CA0-EFD3A2A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2F4-A396-4733-9302-67BBE4D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95C-D27E-43A7-88DF-D483B8D1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4772-8E6D-4302-AF94-C7002A58F185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392040"/>
            <a:ext cx="81914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Introduction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to the “Cavities and vessels” session (</a:t>
            </a:r>
            <a:r>
              <a:rPr b="1" sz="1800" spc="-1" strike="noStrike">
                <a:solidFill>
                  <a:srgbClr val="0f07ff"/>
                </a:solidFill>
                <a:latin typeface="Times New Roman"/>
              </a:rPr>
              <a:t>by L. Mo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10’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esentation of the Laboratoire Souterrain de Modan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1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. Gerbier (Saclay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9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Large excavations in the USA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. Petersen (Minneapolis) talk presented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by Chang Kee Jung (Stony Bro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0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Study on the Excavation of the Hyper-KAMIOKANDE Cavern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3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. Nakagawa (Tokyo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10h 40’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-------------------------------   Coffee break </a:t>
            </a:r>
            <a:r>
              <a:rPr b="1" sz="1600" spc="-1" strike="noStrike">
                <a:solidFill>
                  <a:srgbClr val="ff0c14"/>
                </a:solidFill>
                <a:latin typeface="Times New Roman"/>
              </a:rPr>
              <a:t>(20’)</a:t>
            </a:r>
            <a:r>
              <a:rPr b="1" sz="1600" spc="-1" strike="noStrike">
                <a:solidFill>
                  <a:srgbClr val="c91c8d"/>
                </a:solidFill>
                <a:latin typeface="Times New Roman"/>
              </a:rPr>
              <a:t> 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0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Large excavations in Europe 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. Lévy (Par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1h 30’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Engineering of large and deep rock caverns for physics research </a:t>
            </a: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(25’+ 5’)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. Duffaut (Paris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c14"/>
                </a:solidFill>
                <a:latin typeface="Times New Roman"/>
              </a:rPr>
              <a:t>12h 00’  Concluding Remarks of the Conference (20’+ 5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K. Nakamura (KEK)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4582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Candidate sites for futur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of Very Large (“Megaton scale”)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Japa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perKamioka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North Americ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cades-Icicle Creek, W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nderson Mine, Empire, CO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omestake Mine, Lead, SD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Kimballton Mine, Giles Co., VA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an Jacinto, 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udan Mine, Soudan, MN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NOLAB, Sudbury, ONT (Canada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IPP, Carlsbad, NM 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Europ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éjus tunnel (France/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land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-1790640" y="-573120"/>
          <a:ext cx="12725280" cy="800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90640" y="-573120"/>
                    <a:ext cx="12725280" cy="800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2860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971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Gran Sa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3290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udbur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7339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Fréjus-L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6858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333399"/>
                </a:solidFill>
                <a:latin typeface="Times New Roman"/>
              </a:rPr>
              <a:t>) vs Depth (mwe) for already existing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105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124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ak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Soudan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2907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Canfranc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4131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Pyhäsalmi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9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Homes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2960" y="39625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Boulby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90720" y="838080"/>
          <a:ext cx="7543800" cy="56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5438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9040" y="0"/>
            <a:ext cx="4711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Volume (m</a:t>
            </a:r>
            <a:r>
              <a:rPr b="1" sz="2000" spc="-1" strike="noStrike" baseline="30000">
                <a:solidFill>
                  <a:srgbClr val="0f07ff"/>
                </a:solidFill>
                <a:latin typeface="Times New Roman"/>
              </a:rPr>
              <a:t>3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) vs Depth (mw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     </a:t>
            </a: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for 3 projects of future L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(</a:t>
            </a:r>
            <a:r>
              <a:rPr b="1" sz="1400" spc="-1" strike="noStrike">
                <a:solidFill>
                  <a:srgbClr val="0f07ff"/>
                </a:solidFill>
                <a:latin typeface="Times New Roman"/>
              </a:rPr>
              <a:t>the already existing Labs are also shown for comparison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5440" y="234648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Yper-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20574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0c14"/>
                </a:solidFill>
                <a:latin typeface="Times New Roman"/>
              </a:rPr>
              <a:t>Fréjus-Memph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3440" y="22096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ff120c"/>
                </a:solidFill>
                <a:latin typeface="Times New Roman"/>
              </a:rPr>
              <a:t>UNO-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8800" y="4191120"/>
            <a:ext cx="7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7480" y="5943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m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0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360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0280" y="5791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219320" y="4413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f07ff"/>
                </a:solidFill>
                <a:latin typeface="Times New Roman"/>
              </a:rPr>
              <a:t>and HyperKamiok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43040" y="841320"/>
            <a:ext cx="7657920" cy="5173560"/>
          </a:xfrm>
          <a:prstGeom prst="rect">
            <a:avLst/>
          </a:prstGeom>
          <a:ln w="19080">
            <a:solidFill>
              <a:srgbClr val="ff0c14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429000" y="2590920"/>
            <a:ext cx="1295280" cy="3047760"/>
          </a:xfrm>
          <a:prstGeom prst="line">
            <a:avLst/>
          </a:prstGeom>
          <a:ln w="38160">
            <a:solidFill>
              <a:srgbClr val="ff1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572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4680" y="2286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 CERN-Fréjus  MEMPHY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14320" y="914400"/>
            <a:ext cx="7513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o, the</a:t>
            </a:r>
            <a:r>
              <a:rPr b="1" sz="2400" spc="-1" strike="noStrike">
                <a:solidFill>
                  <a:srgbClr val="ff120c"/>
                </a:solidFill>
                <a:latin typeface="Times New Roman"/>
              </a:rPr>
              <a:t> challeng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s now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find out the best site(s) with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lativel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very large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volum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megaton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  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venient </a:t>
            </a:r>
            <a:r>
              <a:rPr b="1" sz="2400" spc="-1" strike="noStrike">
                <a:solidFill>
                  <a:srgbClr val="0f07ff"/>
                </a:solidFill>
                <a:latin typeface="Times New Roman"/>
              </a:rPr>
              <a:t>positio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ong baseline) with respec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ccelerato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o be able to 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excavate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sz="2400" spc="-1" strike="noStrike">
                <a:solidFill>
                  <a:srgbClr val="ff0c14"/>
                </a:solidFill>
                <a:latin typeface="Times New Roman"/>
              </a:rPr>
              <a:t> stabiliz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ca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t us see with the talks of this session 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23:42:32Z</dcterms:created>
  <dc:creator>Luigi Mosca</dc:creator>
  <dc:description/>
  <dc:language>en-US</dc:language>
  <cp:lastModifiedBy>Luigi Mosca</cp:lastModifiedBy>
  <dcterms:modified xsi:type="dcterms:W3CDTF">2005-04-12T01:54:12Z</dcterms:modified>
  <cp:revision>62</cp:revision>
  <dc:subject/>
  <dc:title>Présentation PowerPoint</dc:title>
</cp:coreProperties>
</file>